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2A8-5A08-4F2E-97A2-C8FA9DA0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BAF-ED1F-403A-A338-2AED8188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3CB-4A73-4039-AD4C-AF078E55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218-1EA4-4777-B4A6-3D641AAF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815-B1FB-40C0-9906-2B6B6BE1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AA3-7050-418E-AD19-B5347136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6C2-F799-4813-9209-291B9CCE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021-56A5-4418-8BA7-EDC97229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859-4AA7-4FF9-B535-F347C640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631-74E2-48DE-B334-A8E14C2C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27E-09D5-47A0-B4F1-78A677CD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A62-DEEF-4C82-BA6F-92E14332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4465-DDD5-4D2E-8586-138068793C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E1D3-A617-4A0A-917B-F11FECA9B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2665440" cy="232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7440" y="3355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0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160" y="5493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km Ge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915840"/>
            <a:ext cx="2519280" cy="229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8160" y="33559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535120" cy="2332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27440" y="33559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0.1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03640" y="3860640"/>
            <a:ext cx="3095640" cy="2733840"/>
            <a:chOff x="3203640" y="3860640"/>
            <a:chExt cx="3095640" cy="2733840"/>
          </a:xfrm>
        </p:grpSpPr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203640" y="3860640"/>
              <a:ext cx="309564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26360" y="604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89920" y="5732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92080" y="53737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45320" y="4005360"/>
              <a:ext cx="7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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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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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26400" y="6165720"/>
              <a:ext cx="104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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2G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F724A-1253-468A-8988-D4D84E9AC9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3:18:27Z</dcterms:created>
  <dc:creator>J.E Campagne</dc:creator>
  <dc:description/>
  <dc:language>en-US</dc:language>
  <cp:lastModifiedBy>J.E Campagne</cp:lastModifiedBy>
  <dcterms:modified xsi:type="dcterms:W3CDTF">2005-11-30T15:26:52Z</dcterms:modified>
  <cp:revision>6</cp:revision>
  <dc:subject/>
  <dc:title>Diapositive 1</dc:title>
</cp:coreProperties>
</file>